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wmf" ContentType="image/x-wmf"/>
  <Override PartName="/ppt/media/image2.wmf" ContentType="image/x-wmf"/>
  <Override PartName="/ppt/media/image3.wmf" ContentType="image/x-wmf"/>
  <Override PartName="/ppt/media/image4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8.xml.rels" ContentType="application/vnd.openxmlformats-package.relationships+xml"/>
  <Override PartName="/ppt/slides/_rels/slide19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  <p:sldId id="273" r:id="rId20"/>
    <p:sldId id="274" r:id="rId21"/>
  </p:sldIdLst>
  <p:sldSz cx="9144000" cy="6858000"/>
  <p:notesSz cx="6983413" cy="92837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slide" Target="slides/slide18.xml"/><Relationship Id="rId21" Type="http://schemas.openxmlformats.org/officeDocument/2006/relationships/slide" Target="slides/slide19.xml"/><Relationship Id="rId22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6F01E7-7B05-4772-BEAB-5037851E5E0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FBA5CF7-F61C-4E82-B881-6E8162977D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DCE1C8-2AF4-4C09-90AF-01BAEC3424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F5436E-D603-416E-9F09-19FB778B6CE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48B71A-4960-4A7E-B0B3-8D9BBE738D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72A5F-73E6-4311-8283-F56F584675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9D79D3-2892-47EA-99BF-1C8279732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5C2B-288C-4E18-94E2-1BCD668F088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C46F91-60A1-46AE-AD12-6A599678B4C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C2EC43-C193-4D4A-8A95-DDBFED8761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7B9E0F-68A3-4547-B731-03B946677B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617F2F-6259-4A71-9F56-831655560EB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3333cc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A35669C-9C7D-4478-A28A-243A7B874DBF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3.wmf"/><Relationship Id="rId3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wmf"/><Relationship Id="rId3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.wmf"/><Relationship Id="rId3" Type="http://schemas.openxmlformats.org/officeDocument/2006/relationships/slideLayout" Target="../slideLayouts/slideLayout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28560" y="707760"/>
            <a:ext cx="77724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Developing a Framework for Simulation, Verification and Testing of SDL Specific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761760" y="3524040"/>
            <a:ext cx="7467480" cy="2643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Olga Shumsky 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Lawrence Henschen</a:t>
            </a: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Northwestern University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[shumsky,henschen]@ece.nwu.edu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0" y="394200"/>
            <a:ext cx="91440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mmunication Network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152280" y="2225520"/>
            <a:ext cx="8763120" cy="4262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Paths consisting of several links are collapsed into multi-component single entiti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stantaneous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route-nam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laying paths: 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ource destination (member routes) queue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Network from example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sender receiver (out1 link in2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receiver sender (out2 link in1) nil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577800" y="204840"/>
            <a:ext cx="7988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ranslator Correctnes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2720" y="1176480"/>
            <a:ext cx="8458200" cy="284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an inverse function untranslate, and prove that no information is lost w.r.t. to a specialized equivalence re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 algn="ctr">
              <a:lnSpc>
                <a:spcPct val="10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(equal* (untranslate (translate S)) S)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vial for process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ricky for network trans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88" name=""/>
          <p:cNvGraphicFramePr/>
          <p:nvPr/>
        </p:nvGraphicFramePr>
        <p:xfrm>
          <a:off x="457200" y="4221000"/>
          <a:ext cx="8077320" cy="2430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89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4221000"/>
                    <a:ext cx="8077320" cy="2430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685800" y="1832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ctiv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1" name="PlaceHolder 2"/>
          <p:cNvSpPr>
            <a:spLocks noGrp="1"/>
          </p:cNvSpPr>
          <p:nvPr>
            <p:ph/>
          </p:nvPr>
        </p:nvSpPr>
        <p:spPr>
          <a:xfrm>
            <a:off x="342720" y="1133640"/>
            <a:ext cx="8458200" cy="5619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DL differentiates between process definition and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fined process activation mechanis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instanc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1 receiverprocess start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ackid . nil) (frameid . nil) (self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ender . nil) (parent . 0) (offspring . nil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start …)) nil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 property: defined a recognizer for valid instances of a system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fthm activate-makes-instanc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implies (wf-type S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f-instance (activate S) S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685800" y="15084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Simulator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304560" y="914400"/>
            <a:ext cx="8458200" cy="52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Simul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  <p:sp>
        <p:nvSpPr>
          <p:cNvPr id="94" name=""/>
          <p:cNvSpPr/>
          <p:nvPr/>
        </p:nvSpPr>
        <p:spPr>
          <a:xfrm>
            <a:off x="228600" y="3886200"/>
            <a:ext cx="8458200" cy="2786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functions defined for: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signal input and output, assignment, updating state, decision, process creation, procedure call, timer operations, stop, and got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Correctness: simulating each action preserves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cc"/>
                </a:solidFill>
                <a:latin typeface="Courier New"/>
              </a:rPr>
              <a:t>	</a:t>
            </a:r>
            <a:r>
              <a:rPr b="1" lang="en-US" sz="2400" spc="-1" strike="noStrike">
                <a:solidFill>
                  <a:srgbClr val="5f5f5f"/>
                </a:solidFill>
                <a:latin typeface="Courier New"/>
              </a:rPr>
              <a:t>wf-instance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property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95" name=""/>
          <p:cNvGraphicFramePr/>
          <p:nvPr/>
        </p:nvGraphicFramePr>
        <p:xfrm>
          <a:off x="533520" y="1676520"/>
          <a:ext cx="8001000" cy="2151000"/>
        </p:xfrm>
        <a:graphic>
          <a:graphicData uri="http://schemas.openxmlformats.org/drawingml/2006/table">
            <a:tbl>
              <a:tblPr/>
              <a:tblGrid>
                <a:gridCol w="2286000"/>
                <a:gridCol w="838440"/>
                <a:gridCol w="3809880"/>
                <a:gridCol w="1066680"/>
              </a:tblGrid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c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t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Memory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1368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33732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stanti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tart 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nil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After initialization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arrives in queue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nil) (sender . nil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Frame(0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Signal consum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-1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580680"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Transition completed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waiting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(ackid . 0) (frameid . 0) (sender . 2)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 algn="ctr">
                        <a:lnSpc>
                          <a:spcPct val="100000"/>
                        </a:lnSpc>
                        <a:spcBef>
                          <a:spcPts val="4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600" spc="-1" strike="noStrike">
                          <a:solidFill>
                            <a:srgbClr val="3333cc"/>
                          </a:solidFill>
                          <a:latin typeface="Tahoma"/>
                        </a:rPr>
                        <a:t>nil</a:t>
                      </a:r>
                      <a:endParaRPr b="0" lang="en-US" sz="16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1368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1368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685800" y="490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Concurrency Simu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457200" y="1749240"/>
            <a:ext cx="8229600" cy="5762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ndicates to the top-level simulator function the id of the next instance to simul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How fine-grained should a simulation be?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Transi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the simulation might miss some possible real-life process interleaving scenarios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ctions are considered atomic: </a:t>
            </a:r>
            <a:r>
              <a:rPr b="0" lang="en-US" sz="2000" spc="-1" strike="noStrike">
                <a:solidFill>
                  <a:srgbClr val="3333cc"/>
                </a:solidFill>
                <a:latin typeface="Tahoma"/>
              </a:rPr>
              <a:t>some actions, such as procedure calls, are more time consuming than simple actions, such as goto and nextstate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implementing mechanisms to handle both cases, so that appropriate process interleaving can be selected for each appl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685800" y="946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Network Handling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/>
          </p:nvPr>
        </p:nvSpPr>
        <p:spPr>
          <a:xfrm>
            <a:off x="457200" y="2657160"/>
            <a:ext cx="8229600" cy="411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ignal traveling through an instantaneous path is immediately delivered to the destin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n oracle is supplied to delaying paths to determine whether the path forwards the signal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there is an inconsistency in the address of the signal, a warning is generated, and the signal is discarded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 type="title"/>
          </p:nvPr>
        </p:nvSpPr>
        <p:spPr>
          <a:xfrm>
            <a:off x="685800" y="-20340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DL Specifications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1" name="PlaceHolder 2"/>
          <p:cNvSpPr>
            <a:spLocks noGrp="1"/>
          </p:cNvSpPr>
          <p:nvPr>
            <p:ph/>
          </p:nvPr>
        </p:nvSpPr>
        <p:spPr>
          <a:xfrm>
            <a:off x="342720" y="1028880"/>
            <a:ext cx="8458200" cy="6636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nce the simulator is proved correct, we can prove properties of specifications w.r.t. the simulato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Our protocol is correct if sender and receiver agree on the id of the last successfully transmitted frame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1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&lt;= (variable-value 'ack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receiver (simulate S O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ariable-value 'frameid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defthm sender-receiver-agree-2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let ((v1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ackid (instance 'receiver (simulate S O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 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v2 (variable-value 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	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'frameid (instance 'sender (simulate S O)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5f5f5f"/>
                </a:solidFill>
                <a:latin typeface="Courier New"/>
              </a:rPr>
              <a:t>(implies (&lt; v1 v2) (= (+ 1 v1) v2))))</a:t>
            </a:r>
            <a:endParaRPr b="0" lang="en-US" sz="1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Defined access functions to extract variables and instance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title"/>
          </p:nvPr>
        </p:nvSpPr>
        <p:spPr>
          <a:xfrm>
            <a:off x="685800" y="4636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Testing of implementations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3" name="PlaceHolder 2"/>
          <p:cNvSpPr>
            <a:spLocks noGrp="1"/>
          </p:cNvSpPr>
          <p:nvPr>
            <p:ph/>
          </p:nvPr>
        </p:nvSpPr>
        <p:spPr>
          <a:xfrm>
            <a:off x="685800" y="1692360"/>
            <a:ext cx="7772400" cy="1312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imulator can be used for testing:</a:t>
            </a:r>
            <a:r>
              <a:rPr b="0" lang="en-US" sz="3200" spc="-1" strike="noStrike">
                <a:solidFill>
                  <a:srgbClr val="3333cc"/>
                </a:solidFill>
                <a:latin typeface="Tahoma"/>
              </a:rPr>
              <a:t> </a:t>
            </a: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mplemented units are substituted in place of simulations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</p:txBody>
      </p:sp>
      <p:graphicFrame>
        <p:nvGraphicFramePr>
          <p:cNvPr id="104" name=""/>
          <p:cNvGraphicFramePr/>
          <p:nvPr/>
        </p:nvGraphicFramePr>
        <p:xfrm>
          <a:off x="457200" y="2819520"/>
          <a:ext cx="8213760" cy="32893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0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457200" y="2819520"/>
                    <a:ext cx="8213760" cy="32893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685800" y="99072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Related Work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/>
          </p:nvPr>
        </p:nvSpPr>
        <p:spPr>
          <a:xfrm>
            <a:off x="685800" y="2749320"/>
            <a:ext cx="7772400" cy="3123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Other approaches to verification of SDL specifications are based on model checkers.  A couple of exampl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IF system from Verimag converts SDL to PROMELA and uses SPIN model checker</a:t>
            </a:r>
            <a:endParaRPr b="0" lang="en-US" sz="2400" spc="-1" strike="noStrike">
              <a:solidFill>
                <a:srgbClr val="3333cc"/>
              </a:solidFill>
              <a:latin typeface="Tahoma"/>
            </a:endParaRPr>
          </a:p>
          <a:p>
            <a:pPr lvl="1" marL="743040" indent="-285840">
              <a:spcBef>
                <a:spcPts val="700"/>
              </a:spcBef>
              <a:buClr>
                <a:srgbClr val="3333cc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cc"/>
                </a:solidFill>
                <a:latin typeface="Tahoma"/>
              </a:rPr>
              <a:t>A proprietary verification system at Siemens</a:t>
            </a: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 relies on a BDD-based symbolic check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685800" y="658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ummary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685800" y="208296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developing a simulator for SDL specificatio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using ACL2 for the development and verification of the simulato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goal is to provide a framework for verification of SDL specifications using a theorem prover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25800" indent="-32580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simulator also helps in testing of implementations: acts as a test driver and helps compute expected results for test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685800" y="63180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Introduc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609480" y="2031480"/>
            <a:ext cx="7925040" cy="4626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Formal verification is widely used in hardware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rrors found late in the production cycle are more expensive to correct in hardware than in softwar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 safety-critical software systems correctness requirements warrant formal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Emphasis on design processes that already employ formal method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380880" y="252360"/>
            <a:ext cx="838224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pecification and Description Language SD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457200" y="1943280"/>
            <a:ext cx="8191440" cy="5438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formal description technique standardized in 1988 by International Telecommunication Un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ntended for description of communication protocol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Used on a variety of distributed, concurrent, communicating, asynchronous system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ny support tools exists, but no framework for theorem-proving based verification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Main building blocks are processes represented by extended finite-state machines and delaying and instantaneous communication link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228600" y="358920"/>
            <a:ext cx="8686800" cy="2104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Example of Modeling with SDL: </a:t>
            </a:r>
            <a:br>
              <a:rPr sz="4400"/>
            </a:b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a simple communication protocol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685800" y="2824200"/>
            <a:ext cx="7772400" cy="3346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 sender and a receiver communicate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Buffer size is 1: each message must be acknowledged before next is 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If acknowledgement does not arrive in a reasonable time, message is resen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The communication network may lose but not corrupt messag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419040" y="4640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1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465120" y="2590920"/>
            <a:ext cx="8213760" cy="3289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419040" y="-174240"/>
            <a:ext cx="830592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tocol Modeling in SDL: Part 2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graphicFrame>
        <p:nvGraphicFramePr>
          <p:cNvPr id="52" name=""/>
          <p:cNvGraphicFramePr/>
          <p:nvPr/>
        </p:nvGraphicFramePr>
        <p:xfrm>
          <a:off x="152280" y="1066680"/>
          <a:ext cx="8856720" cy="560880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5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52280" y="1066680"/>
                    <a:ext cx="8856720" cy="56088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685800" y="865080"/>
            <a:ext cx="7772400" cy="1434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Simulator vs. Specification Verific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685800" y="3165120"/>
            <a:ext cx="7772400" cy="2831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We are building a verified simulator for SDL specifications – one-time effort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Design engineers can use the simulator  to verify SDL specifications – multiple verification efforts on multiple design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43080" indent="-3430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ACL2 used in both case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14120" y="-108000"/>
            <a:ext cx="8915400" cy="119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cc0000"/>
                </a:solidFill>
                <a:latin typeface="Tahoma"/>
              </a:rPr>
              <a:t>SDL Specifications Simulator Architecture</a:t>
            </a:r>
            <a:endParaRPr b="0" lang="en-US" sz="3600" spc="-1" strike="noStrike">
              <a:solidFill>
                <a:srgbClr val="cc0000"/>
              </a:solidFill>
              <a:latin typeface="Tahoma"/>
            </a:endParaRPr>
          </a:p>
        </p:txBody>
      </p:sp>
      <p:grpSp>
        <p:nvGrpSpPr>
          <p:cNvPr id="57" name=""/>
          <p:cNvGrpSpPr/>
          <p:nvPr/>
        </p:nvGrpSpPr>
        <p:grpSpPr>
          <a:xfrm>
            <a:off x="98280" y="974880"/>
            <a:ext cx="9005400" cy="5718600"/>
            <a:chOff x="98280" y="974880"/>
            <a:chExt cx="9005400" cy="5718600"/>
          </a:xfrm>
        </p:grpSpPr>
        <p:sp>
          <p:nvSpPr>
            <p:cNvPr id="58" name=""/>
            <p:cNvSpPr/>
            <p:nvPr/>
          </p:nvSpPr>
          <p:spPr>
            <a:xfrm>
              <a:off x="2004840" y="35164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Activ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>
              <a:off x="2004840" y="1889280"/>
              <a:ext cx="2184480" cy="7128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Trans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>
              <a:off x="2006280" y="5143680"/>
              <a:ext cx="2181240" cy="711000"/>
            </a:xfrm>
            <a:prstGeom prst="rect">
              <a:avLst/>
            </a:prstGeom>
            <a:solidFill>
              <a:srgbClr val="eaeaea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Process Simulator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cc0000"/>
                  </a:solidFill>
                  <a:latin typeface="Tahoma"/>
                </a:rPr>
                <a:t>&amp; Utilitie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944800" y="26020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2944800" y="42292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3" name=""/>
            <p:cNvSpPr/>
            <p:nvPr/>
          </p:nvSpPr>
          <p:spPr>
            <a:xfrm>
              <a:off x="2944800" y="974880"/>
              <a:ext cx="304560" cy="914400"/>
            </a:xfrm>
            <a:prstGeom prst="downArrow">
              <a:avLst>
                <a:gd name="adj1" fmla="val 50000"/>
                <a:gd name="adj2" fmla="val 75059"/>
              </a:avLst>
            </a:pr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4" name=""/>
            <p:cNvSpPr/>
            <p:nvPr/>
          </p:nvSpPr>
          <p:spPr>
            <a:xfrm>
              <a:off x="3571920" y="1233360"/>
              <a:ext cx="220608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DL Specifications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5" name=""/>
            <p:cNvSpPr/>
            <p:nvPr/>
          </p:nvSpPr>
          <p:spPr>
            <a:xfrm>
              <a:off x="3541680" y="2708280"/>
              <a:ext cx="2268720" cy="70380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pecifications i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Lisp-Based Forma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6" name=""/>
            <p:cNvSpPr/>
            <p:nvPr/>
          </p:nvSpPr>
          <p:spPr>
            <a:xfrm>
              <a:off x="3678480" y="4487760"/>
              <a:ext cx="199440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Instance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7" name=""/>
            <p:cNvSpPr/>
            <p:nvPr/>
          </p:nvSpPr>
          <p:spPr>
            <a:xfrm>
              <a:off x="3568320" y="6294600"/>
              <a:ext cx="2250360" cy="398880"/>
            </a:xfrm>
            <a:prstGeom prst="rect">
              <a:avLst/>
            </a:prstGeom>
            <a:solidFill>
              <a:srgbClr val="ffff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i="1" lang="en-US" sz="2000" spc="-1" strike="noStrike">
                  <a:solidFill>
                    <a:srgbClr val="5f5f5f"/>
                  </a:solidFill>
                  <a:latin typeface="Tahoma"/>
                </a:rPr>
                <a:t>System Simul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8" name=""/>
            <p:cNvSpPr/>
            <p:nvPr/>
          </p:nvSpPr>
          <p:spPr>
            <a:xfrm>
              <a:off x="98280" y="2249640"/>
              <a:ext cx="1235160" cy="1117440"/>
            </a:xfrm>
            <a:prstGeom prst="roundRect">
              <a:avLst>
                <a:gd name="adj" fmla="val 16667"/>
              </a:avLst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Formally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69" name=""/>
            <p:cNvCxnSpPr>
              <a:stCxn id="68" idx="3"/>
              <a:endCxn id="59" idx="1"/>
            </p:cNvCxnSpPr>
            <p:nvPr/>
          </p:nvCxnSpPr>
          <p:spPr>
            <a:xfrm flipV="1">
              <a:off x="1333080" y="2246040"/>
              <a:ext cx="672120" cy="38808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0" name=""/>
            <p:cNvCxnSpPr>
              <a:stCxn id="68" idx="3"/>
              <a:endCxn id="58" idx="1"/>
            </p:cNvCxnSpPr>
            <p:nvPr/>
          </p:nvCxnSpPr>
          <p:spPr>
            <a:xfrm>
              <a:off x="1333080" y="2633760"/>
              <a:ext cx="672120" cy="12405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1" name=""/>
            <p:cNvCxnSpPr>
              <a:stCxn id="68" idx="3"/>
              <a:endCxn id="60" idx="1"/>
            </p:cNvCxnSpPr>
            <p:nvPr/>
          </p:nvCxnSpPr>
          <p:spPr>
            <a:xfrm>
              <a:off x="1333080" y="2633400"/>
              <a:ext cx="673200" cy="2865960"/>
            </a:xfrm>
            <a:prstGeom prst="straightConnector1">
              <a:avLst/>
            </a:prstGeom>
            <a:ln w="38160">
              <a:solidFill>
                <a:srgbClr val="3333cc"/>
              </a:solidFill>
              <a:prstDash val="dash"/>
              <a:miter/>
              <a:tailEnd len="med" type="triangle" w="med"/>
            </a:ln>
          </p:spPr>
        </p:cxnSp>
        <p:cxnSp>
          <p:nvCxnSpPr>
            <p:cNvPr id="72" name=""/>
            <p:cNvCxnSpPr/>
            <p:nvPr/>
          </p:nvCxnSpPr>
          <p:spPr>
            <a:xfrm>
              <a:off x="5247720" y="1630440"/>
              <a:ext cx="252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cxnSp>
          <p:nvCxnSpPr>
            <p:cNvPr id="73" name=""/>
            <p:cNvCxnSpPr/>
            <p:nvPr/>
          </p:nvCxnSpPr>
          <p:spPr>
            <a:xfrm>
              <a:off x="5246280" y="4876920"/>
              <a:ext cx="1080" cy="13500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  <p:sp>
          <p:nvSpPr>
            <p:cNvPr id="74" name=""/>
            <p:cNvSpPr/>
            <p:nvPr/>
          </p:nvSpPr>
          <p:spPr>
            <a:xfrm>
              <a:off x="5204880" y="3637080"/>
              <a:ext cx="23281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valid instance, valid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 pair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5319720" y="1841400"/>
              <a:ext cx="163620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equivalent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pecifications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5322600" y="5338800"/>
              <a:ext cx="1960920" cy="6426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correct instance 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3333cc"/>
                  </a:solidFill>
                  <a:latin typeface="Tahoma"/>
                </a:rPr>
                <a:t>simulation</a:t>
              </a:r>
              <a:endParaRPr b="0" lang="en-US" sz="18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7426440" y="3309840"/>
              <a:ext cx="1677240" cy="131364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Correct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imulation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of original 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2000" spc="-1" strike="noStrike">
                  <a:solidFill>
                    <a:srgbClr val="3333cc"/>
                  </a:solidFill>
                  <a:latin typeface="Tahoma"/>
                </a:rPr>
                <a:t>specification</a:t>
              </a:r>
              <a:endParaRPr b="0" lang="en-US" sz="20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78" name=""/>
            <p:cNvCxnSpPr/>
            <p:nvPr/>
          </p:nvCxnSpPr>
          <p:spPr>
            <a:xfrm flipV="1" rot="16200000">
              <a:off x="6096960" y="1099440"/>
              <a:ext cx="190548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cxnSp>
          <p:nvCxnSpPr>
            <p:cNvPr id="79" name=""/>
            <p:cNvCxnSpPr/>
            <p:nvPr/>
          </p:nvCxnSpPr>
          <p:spPr>
            <a:xfrm rot="5400000">
              <a:off x="6113520" y="4299480"/>
              <a:ext cx="1872360" cy="2515320"/>
            </a:xfrm>
            <a:prstGeom prst="curvedConnector2">
              <a:avLst/>
            </a:prstGeom>
            <a:ln w="38160">
              <a:solidFill>
                <a:srgbClr val="3333cc"/>
              </a:solidFill>
              <a:miter/>
              <a:tailEnd len="med" type="triangle" w="med"/>
            </a:ln>
          </p:spPr>
        </p:cxnSp>
        <p:sp>
          <p:nvSpPr>
            <p:cNvPr id="80" name=""/>
            <p:cNvSpPr/>
            <p:nvPr/>
          </p:nvSpPr>
          <p:spPr>
            <a:xfrm>
              <a:off x="2259000" y="5854680"/>
              <a:ext cx="1676160" cy="500040"/>
            </a:xfrm>
            <a:custGeom>
              <a:avLst/>
              <a:gdLst>
                <a:gd name="textAreaLeft" fmla="*/ 293040 w 1676160"/>
                <a:gd name="textAreaRight" fmla="*/ 1215360 w 1676160"/>
                <a:gd name="textAreaTop" fmla="*/ 66960 h 500040"/>
                <a:gd name="textAreaBottom" fmla="*/ 433080 h 500040"/>
              </a:gdLst>
              <a:ahLst/>
              <a:rect l="textAreaLeft" t="textAreaTop" r="textAreaRight" b="textAreaBottom"/>
              <a:pathLst>
                <a:path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-2682637"/>
                  <a:lnTo>
                    <a:pt x="21168" y="7200"/>
                  </a:lnTo>
                  <a:lnTo>
                    <a:pt x="17280" y="0"/>
                  </a:lnTo>
                  <a:lnTo>
                    <a:pt x="12528" y="7200"/>
                  </a:lnTo>
                  <a:lnTo>
                    <a:pt x="14688" y="7200"/>
                  </a:lnTo>
                  <a:arcTo wR="7560" hR="21600" stAng="2717363" swAng="2325203"/>
                  <a:lnTo>
                    <a:pt x="9720" y="20700"/>
                  </a:lnTo>
                  <a:arcTo wR="7560" hR="21600" stAng="5757435" swAng="5042565"/>
                  <a:close/>
                </a:path>
                <a:path fill="darkenLess" w="21600" h="21600">
                  <a:moveTo>
                    <a:pt x="0" y="0"/>
                  </a:moveTo>
                  <a:arcTo wR="7560" hR="21600" stAng="10800000" swAng="-5400000"/>
                  <a:lnTo>
                    <a:pt x="11880" y="21600"/>
                  </a:lnTo>
                  <a:arcTo wR="7560" hR="21600" stAng="5400000" swAng="357435"/>
                  <a:lnTo>
                    <a:pt x="9720" y="20700"/>
                  </a:lnTo>
                  <a:arcTo wR="7560" hR="21600" stAng="5757435" swAng="5042565"/>
                  <a:close/>
                </a:path>
              </a:pathLst>
            </a:custGeom>
            <a:solidFill>
              <a:srgbClr val="ffffff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cxnSp>
          <p:nvCxnSpPr>
            <p:cNvPr id="81" name=""/>
            <p:cNvCxnSpPr/>
            <p:nvPr/>
          </p:nvCxnSpPr>
          <p:spPr>
            <a:xfrm>
              <a:off x="5246640" y="3417840"/>
              <a:ext cx="2160" cy="1078200"/>
            </a:xfrm>
            <a:prstGeom prst="straightConnector1">
              <a:avLst/>
            </a:prstGeom>
            <a:ln w="38160">
              <a:solidFill>
                <a:srgbClr val="3333cc"/>
              </a:solidFill>
              <a:miter/>
              <a:headEnd len="med" type="triangle" w="med"/>
              <a:tailEnd len="med" type="triangle" w="med"/>
            </a:ln>
          </p:spPr>
        </p:cxn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685800" y="226080"/>
            <a:ext cx="7772400" cy="764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0000"/>
                </a:solidFill>
                <a:latin typeface="Tahoma"/>
              </a:rPr>
              <a:t>Process Translation</a:t>
            </a:r>
            <a:endParaRPr b="0" lang="en-US" sz="4400" spc="-1" strike="noStrike">
              <a:solidFill>
                <a:srgbClr val="cc0000"/>
              </a:solidFill>
              <a:latin typeface="Tahoma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266760" y="1217160"/>
            <a:ext cx="8610480" cy="545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Superficial, stores entities as lists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-339480">
              <a:spcBef>
                <a:spcPts val="700"/>
              </a:spcBef>
              <a:buClr>
                <a:srgbClr val="3333cc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3333cc"/>
                </a:solidFill>
                <a:latin typeface="Tahoma"/>
              </a:rPr>
              <a:t>Receiver process translated:</a:t>
            </a:r>
            <a:endParaRPr b="0" lang="en-US" sz="28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receiver (1 . 1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ackid frameid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start (() (task ackid -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label 1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output ack (ackid) () (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nextstate waiting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waiting ((frameid (frameid)) 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decision ((= frame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task ackid (+ ackid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(&lt;&gt; frameid (+ ack 1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  <a:p>
            <a:pPr marL="3394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                               </a:t>
            </a:r>
            <a:r>
              <a:rPr b="1" lang="en-US" sz="2000" spc="-1" strike="noStrike">
                <a:solidFill>
                  <a:srgbClr val="5f5f5f"/>
                </a:solidFill>
                <a:latin typeface="Courier New"/>
              </a:rPr>
              <a:t>(join 1))))))</a:t>
            </a:r>
            <a:endParaRPr b="0" lang="en-US" sz="2000" spc="-1" strike="noStrike">
              <a:solidFill>
                <a:srgbClr val="3333cc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77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10-24T15:31:08Z</dcterms:created>
  <dc:creator>Olya</dc:creator>
  <dc:description/>
  <dc:language>en-US</dc:language>
  <cp:lastModifiedBy>Olya</cp:lastModifiedBy>
  <cp:lastPrinted>2000-10-27T08:06:14Z</cp:lastPrinted>
  <dcterms:modified xsi:type="dcterms:W3CDTF">2000-10-28T23:43:55Z</dcterms:modified>
  <cp:revision>11</cp:revision>
  <dc:subject/>
  <dc:title>Developing a Framework for Simulation, Verification and Testing of SDL Specifications</dc:title>
</cp:coreProperties>
</file>